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E95-4A86-4A04-AE80-EBBC4E66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4C6-934A-4AEB-9977-0A07822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02F-6896-4908-BE81-AA9DF80B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399-791E-4429-B3AB-90385129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586-CF4C-40A3-97C3-183C0E39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1293-C517-465C-800E-F978037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8790-4981-4C43-847E-CAC7251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E4D-B3B2-46F7-846E-F1D3AF5C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1A21-DA63-4F4C-82FC-4560E009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1AE1-4146-4C36-B0ED-ED8831F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260-B171-4EC8-91E0-D84844E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184-4D40-4EBD-A467-269BC20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921D-A010-45E4-9376-799DA6EB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B192-4952-4DFC-BC06-E4F1980F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F196-9120-4CF8-86CC-810439C1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D06A-DF97-4095-A585-1759D0FE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7693-4C27-4928-8F89-5B68DDBD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61A-49CA-469D-99DD-6D856B7B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0CD-61A3-4B76-8411-B9A59D9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C9B-C4EE-4B53-8931-4A953AA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D12-FD0B-4EC5-B640-A76E9549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397-46BE-4771-A96A-32721FBE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B0E-3FAA-454A-A0C7-AEB0F4B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5DA-C194-4949-83DE-FEC7ACD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9F7-317C-4E10-B7E6-583F24A4FD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6756-2D4A-4415-8184-CFDA9B3897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0"/>
            <a:ext cx="6840720" cy="79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 suspiro del mo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del Rey Chico que perdió a Granad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año de cuatroci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venta y dos corr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rey Chico de Gran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dió el reino que ten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alióse de la ciu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 lunes a medio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rcado de caball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flor de la mor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madre lleva cons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la tiene compañía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ese Genil aba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l rey Chico se sal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estribos se han moj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ran de gran val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63640" y="0"/>
            <a:ext cx="4364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mostrar más su d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n el corazón 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aquesa áspera Alpujar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su jornada y v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una cuesta muy al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ranada se parecía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vió a mirar a Gran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Granada la famo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i consuelo y alegrí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to Albaic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i rica Alcaicer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hambra y Alij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ezquita de val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mis baños, huertas y rí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de olgar me solía!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0"/>
            <a:ext cx="56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¿quién os ha de mí apa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jamás yo os vería?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hora te estoy mira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lejos, ciudad m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s presto no te veré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es ya de ti me part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rueda de la fortu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co es quien en ti f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ayer era rey famo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hoy no tengo cosa mía!”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empre el triste coraz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aba su cobar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estas palabras dic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desmayo se ca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ba su madre dela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189000"/>
            <a:ext cx="4253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otra caballe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endo la gente par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eina se de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causa pregunt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que ella no lo sab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óle un moro vie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honesta cortes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u hijo mira a Gr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pena le afligí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do había l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 es que como muj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e con grande agon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que como caball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estado no defendía”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20:44Z</dcterms:created>
  <dc:creator> </dc:creator>
  <dc:description/>
  <dc:language>en-US</dc:language>
  <cp:lastModifiedBy>-</cp:lastModifiedBy>
  <dcterms:modified xsi:type="dcterms:W3CDTF">2008-10-06T23:30:30Z</dcterms:modified>
  <cp:revision>4</cp:revision>
  <dc:subject/>
  <dc:title>Diapositiva 1</dc:title>
</cp:coreProperties>
</file>